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6F24-2584-4109-A818-3B8DC7179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E629-969A-4D93-A6A1-E5CC314D6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0080-78AA-4070-90F6-DB7A7BB8C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7290-17CB-429B-A98E-F7BDDAE69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2234A-B16F-49F8-A1D1-51DFA3D6B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A3287-3AC0-4E59-BBF7-CB0D14C5F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90248-4D94-4CBD-B599-444C2BBA7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5C069-76CE-4E8E-ABA7-53473A61D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84D65-E4D6-44AA-BD85-4B2DE6F18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27A84-0BAA-4BDE-91FE-8EA9D827E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226B7-DE6C-4F42-9507-26917FF9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3612-DBB5-4587-890D-9C2A0A2EA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CD282-7466-4B7B-A7FC-D784547C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07FD4-E059-4E17-B200-33B75044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18AFE-87A1-4A95-BF43-9AAD0C3CC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59BCD-4FFC-4667-B7D9-A80CDF9C5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7A2D5-78AF-4F8B-A390-B6A0CB344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7B1B-CF10-4C0A-8B1B-699F249EE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A9A0-8796-4C49-99C5-62905F98E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1D07-CB17-4FB3-ACBC-328885E3E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54EC-102B-4ECA-9D0A-869EDAA82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2017-5AD1-4203-89D2-2720CAE82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2F75-3D4B-4492-B2E3-22ECD4D1D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D1C0-FD2E-4883-86DA-E8998992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2590F-4711-4142-AFAA-3162E07E8B6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F855C-7DE5-4922-9D2B-0B20E855D9E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685440"/>
            <a:ext cx="6781680" cy="4267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imes New Roman"/>
              </a:rPr>
              <a:t>ACIDS </a:t>
            </a:r>
            <a:br>
              <a:rPr sz="9600"/>
            </a:br>
            <a:r>
              <a:rPr b="1" lang="en-US" sz="9600" spc="-1" strike="noStrike">
                <a:solidFill>
                  <a:srgbClr val="ffffff"/>
                </a:solidFill>
                <a:latin typeface="Times New Roman"/>
              </a:rPr>
              <a:t>AND </a:t>
            </a:r>
            <a:br>
              <a:rPr sz="9600"/>
            </a:br>
            <a:r>
              <a:rPr b="1" lang="en-US" sz="9600" spc="-1" strike="noStrike">
                <a:solidFill>
                  <a:srgbClr val="ffffff"/>
                </a:solidFill>
                <a:latin typeface="Times New Roman"/>
              </a:rPr>
              <a:t>BASES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26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Times New Roman"/>
              </a:rPr>
              <a:t>WHAT IS pH</a:t>
            </a:r>
            <a:br>
              <a:rPr sz="4400"/>
            </a:br>
            <a:br>
              <a:rPr sz="4400"/>
            </a:br>
            <a:r>
              <a:rPr b="0" lang="en-CA" sz="4400" spc="-1" strike="noStrike">
                <a:solidFill>
                  <a:srgbClr val="ffffff"/>
                </a:solidFill>
                <a:latin typeface="Times New Roman"/>
              </a:rPr>
              <a:t>pH is the measurement of how acidic or basic a solution i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Content Placeholder 3" descr="phscale.jpg"/>
          <p:cNvPicPr/>
          <p:nvPr/>
        </p:nvPicPr>
        <p:blipFill>
          <a:blip r:embed="rId1"/>
          <a:stretch/>
        </p:blipFill>
        <p:spPr>
          <a:xfrm>
            <a:off x="1066680" y="3914640"/>
            <a:ext cx="708660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aracteristics of Aci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astes Sou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ffects Indicator (red = acid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utralizes Bas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Often Produces Hydrogen Ga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pH between 0 and &lt;7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aracteristics of Bas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astes Bitte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eel Slippe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utralizes Acids (Antacids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ffect Indicators (base = blue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pH between 7 and 14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Dissolves grease (degreaser, Draino, Windex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xamples of Aci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Cl </a:t>
            </a:r>
            <a:r>
              <a:rPr b="0" lang="en-US" sz="3100" spc="-1" strike="noStrike" baseline="-25000">
                <a:solidFill>
                  <a:srgbClr val="ffffff"/>
                </a:solidFill>
                <a:latin typeface="Arial"/>
              </a:rPr>
              <a:t>(aq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31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en-US" sz="3100" spc="-1" strike="noStrike" baseline="-25000">
                <a:solidFill>
                  <a:srgbClr val="ffffff"/>
                </a:solidFill>
                <a:latin typeface="Arial"/>
              </a:rPr>
              <a:t>4 (aq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F </a:t>
            </a:r>
            <a:r>
              <a:rPr b="0" lang="en-US" sz="3100" spc="-1" strike="noStrike" baseline="-25000">
                <a:solidFill>
                  <a:srgbClr val="ffffff"/>
                </a:solidFill>
                <a:latin typeface="Arial"/>
              </a:rPr>
              <a:t>(aq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ruit Juic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xamples of Bas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aOH </a:t>
            </a:r>
            <a:r>
              <a:rPr b="0" lang="en-US" sz="3100" spc="-1" strike="noStrike" baseline="-25000">
                <a:solidFill>
                  <a:srgbClr val="ffffff"/>
                </a:solidFill>
                <a:latin typeface="Arial"/>
              </a:rPr>
              <a:t>(aq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(OH)</a:t>
            </a:r>
            <a:r>
              <a:rPr b="0" lang="en-US" sz="3100" spc="-1" strike="noStrike" baseline="-25000">
                <a:solidFill>
                  <a:srgbClr val="ffffff"/>
                </a:solidFill>
                <a:latin typeface="Arial"/>
              </a:rPr>
              <a:t>2 (aq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KOH </a:t>
            </a:r>
            <a:r>
              <a:rPr b="0" lang="en-US" sz="3100" spc="-1" strike="noStrike" baseline="-25000">
                <a:solidFill>
                  <a:srgbClr val="ffffff"/>
                </a:solidFill>
                <a:latin typeface="Arial"/>
              </a:rPr>
              <a:t>(aq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Baking Soda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Ly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oap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1532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Lye, ammonia, borax, blood, stomach fluids, vinegar, coffee, water, lemon juice, bleach, tomatoes, tums, milk, baking soda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23:40:47Z</dcterms:created>
  <dc:creator>admin</dc:creator>
  <dc:description/>
  <dc:language>en-US</dc:language>
  <cp:lastModifiedBy>amy.cook</cp:lastModifiedBy>
  <dcterms:modified xsi:type="dcterms:W3CDTF">2010-11-15T18:30:39Z</dcterms:modified>
  <cp:revision>11</cp:revision>
  <dc:subject/>
  <dc:title>ACIDS  AND  BASES</dc:title>
</cp:coreProperties>
</file>